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6653-BD03-4ACF-A021-AD298EDE2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6959-997A-4082-8AEF-4287985D7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D351-6318-4CC1-9EC3-49324BD73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E686-4846-4493-B949-488322A87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A226-FCA4-48DC-A449-EDD89A22A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459D-298F-4CF4-8BE7-309FE12EC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B307-8E3B-4418-9DAB-FA709DF65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E1FE-DC59-4A93-887B-B56F432D4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4C27-893D-43BA-B9B6-3D735C039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4BE2-8F18-4179-8BD5-935FB25CA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2540-13A6-4754-BEF1-48BAADA1B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586E-B476-4A06-9CC4-B314145A0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454BC-A55C-4900-85F2-BEF44F7D4B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Me llamo ________ Clase 7IM</a:t>
            </a:r>
            <a:br>
              <a:rPr sz="4000"/>
            </a:b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La fecha es el 27 de mayo del 20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52280" y="1371240"/>
            <a:ext cx="88394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Propósito # 50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Quién le examina a los pacient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he verbs SER &amp; ESTAR mean the same thing in English “to be”. What is the differen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T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jercic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ia y complet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jercicio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. 65 (1-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ia y respond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jercicio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. 65 (1-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ia y complet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jercicio 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. 65 (1-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ia y complet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jercicio 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. 65 (1-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BOOK p. 3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3886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# 5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d. 9 Actividad Inic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ranslate the following into Spanis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eonardo is very sic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Belinda and Carla are intelligent and pret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 am from the United Sta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Bogota is in Colomb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We are in the schoo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You are in a bad mo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jercic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ia y complet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jercicio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. 68 (1-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ia y complet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jercicio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. 68 (7-1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ia y complet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jercicio 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. 68 (13-2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ia y complet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jercicio 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. 68 (21-2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7T13:46:28Z</dcterms:created>
  <dc:creator>Helen Zumaeta</dc:creator>
  <dc:description/>
  <dc:language>en-US</dc:language>
  <cp:lastModifiedBy>Helen Zumaeta</cp:lastModifiedBy>
  <dcterms:modified xsi:type="dcterms:W3CDTF">2011-05-27T17:01:39Z</dcterms:modified>
  <cp:revision>2</cp:revision>
  <dc:subject/>
  <dc:title>Me llamo ________ Clase 7IM La fecha es el 27 de mayo del 2011</dc:title>
</cp:coreProperties>
</file>